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4591-0358-4FA0-8D3F-EB85D66F882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000000"/>
                </a:solidFill>
                <a:latin typeface="Arial"/>
              </a:rPr>
              <a:t>物聯網就是把感測器裝備到電網、鐵路、橋樑、隧道、公路、建築、供水系統、大壩、油氣管道以及家用電器等各種真實物體上，通過網際網路聯接起來，進而運行特定的程序，達到遠程控制或者實現物與物的直接通信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WSN:Wireless Sensor Network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無線感測網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gBee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的命名源自於蜜蜂在發現花粉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展現如同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ZipZag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形狀的舞蹈。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實際是傳遞訊息給同伴</a:t>
            </a: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5DA3-3D59-426E-AC8A-9D1DBAF6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12D-EF89-44B8-AE3B-0DC17511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AA3-B447-4B19-92D6-C01B1BCD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E93A-D098-4160-B81B-1FFDEBAD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08B8-4D9E-4E41-8092-894E09CF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3F0-F945-43BF-BDBF-55C83C8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FF3B-ECA0-439E-BAA8-E7EA115D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0AD0-64AF-4359-A246-20D6724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EDF4-256F-41CF-9196-FDB1493A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95FA-2887-4779-BB2D-CF95E70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988D-5AA6-4F0F-A9F6-4E84C741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A6E-1D65-473D-8F97-DDF1EA92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13A9-2C00-429B-BC8B-D85FC11B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3379-3EC7-4F4C-A7FF-72F7632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44F7-6539-4600-A8D8-94837201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027F-C2B2-4335-BE20-401AA9AC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8F02-9214-48A9-A9F6-94D8124F7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C36-35EA-48FC-864F-D14F759A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5E8-9E0D-4428-8880-C95F0F15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3B2-FA60-4A1C-B9A3-7BCDD7BC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85B-2D7F-43A5-9D54-5D376E6A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254-69B1-428A-928C-7AE656EB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300C-12EE-4257-A78D-346DBD97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676C-0ACB-45CC-B10F-30EC84AC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0AFA-0539-4ADE-80C9-F5D73B75624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F54-104D-450A-B543-C2B18773A1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D05680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14400" y="326880"/>
            <a:ext cx="7467480" cy="59151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簡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指導老師：鄒景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微軟正黑體"/>
              </a:rPr>
              <a:t>學　　生：何東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聯網，即透過裝置在各類物體上的射頻識別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RFID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、感測器、二維碼等，經過介面與無線網路相連，從而給物體賦予「智能」，實現人與物體的溝通和對話，也可以實現物體與物體互相間的溝通和對話，將物體聯接起來的網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範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物聯網一般為無線網，由於每個人周圍的設備可以達到一千至五千個，所以物聯網可能要包含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億至一千萬億個物體，在物聯網上，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每個人都可以應用電子標籤將真實的物體上網聯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從一瓶牛奶到一架飛機，在物聯網上都可以查找出它們的具體位置，即使在地球的另一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可以</a:t>
            </a:r>
            <a:r>
              <a:rPr b="0" lang="zh-TW" sz="1800" spc="-1" strike="noStrike">
                <a:solidFill>
                  <a:srgbClr val="0000ff"/>
                </a:solidFill>
                <a:latin typeface="Arial"/>
              </a:rPr>
              <a:t>透過物聯網用監控主機對機器、設備、人員進行集中管理、控制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，也可以對家庭設備、汽車進行遙控，以及尋找位置防止物品被盜等各種應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f_244781_1" descr=""/>
          <p:cNvPicPr/>
          <p:nvPr/>
        </p:nvPicPr>
        <p:blipFill>
          <a:blip r:embed="rId1"/>
          <a:stretch/>
        </p:blipFill>
        <p:spPr>
          <a:xfrm>
            <a:off x="4419720" y="2057400"/>
            <a:ext cx="426708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43400" y="1752480"/>
            <a:ext cx="16765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發展的三個維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f_244781_2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5715000" cy="4651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8120" y="160020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物聯網架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f_244781_3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9000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9480" y="1371600"/>
            <a:ext cx="25146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機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研究機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orrsester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預估，物聯網可望成為下一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兆美元的通訊業務；中國移動無錫物聯網研究院也預估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年物聯網將帶來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億人民幣的商機，未來物件皆可與電腦主動進行資料傳輸，提供人類更多自動化的整合服務及便利的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Arial"/>
                <a:ea typeface="微軟正黑體"/>
              </a:rPr>
              <a:t>威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4H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服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駭客入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廣告騷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隱私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09:42Z</dcterms:created>
  <dc:creator>ho</dc:creator>
  <dc:description/>
  <dc:language>en-US</dc:language>
  <cp:lastModifiedBy>ho</cp:lastModifiedBy>
  <dcterms:modified xsi:type="dcterms:W3CDTF">2010-10-16T07:40:05Z</dcterms:modified>
  <cp:revision>23</cp:revision>
  <dc:subject/>
  <dc:title>PowerPoint 簡報</dc:title>
</cp:coreProperties>
</file>